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6D936-5BF4-4716-990A-511C243AD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82F77-B9CD-4FAE-BB4B-1CC92313F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12424-366F-4D2E-A25F-A0018CDCB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AE4CE-63DC-43B1-8E81-436CC3C11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018DF-1A38-47DB-8906-6249383E0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76852-11D3-4320-820E-D6A6709EB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FF88F-CFC3-47FF-A479-DB1D852CB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18962-7568-4D6E-8FE1-7251C776F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31844-BE82-48FB-9247-26461C679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F35CD-93B3-4EAB-97CA-9A76832F9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A4F37-736D-4C73-8BCB-DBD04A0BF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A3CA1-2E6C-43CA-BF71-8497B9713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7BF87-5A8B-45E3-AED7-12DA6DC53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CCDA6-D2F4-4061-8990-CA43F312D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74C63-2506-4EB2-A6D1-FF1E4D2C2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9E060-74B9-4998-9F07-7BB180F8D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1F928-0787-41BF-B5EF-7147F3BDF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78940-2360-4D86-B627-B199CC8F9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97F60-BBE0-46E8-A9EC-45C530E70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78A17-1122-45AC-BF8F-7FA584914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C4B6D-FD07-4A85-9ACE-5CFEDC5B9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A7B45-1274-47DD-BC7E-3D79F4258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F4AE5-EEC6-4E07-8C60-A233A1A34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BCDE8-3BD9-40E0-A080-BCD2BB02C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1027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1028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1029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98552-7DDC-47CA-889B-CECD24371F6C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E777A-AAE8-46DE-9D83-5D4B7F81FB0A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임상관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933560"/>
            <a:ext cx="777240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½Å¸íÁ¶"/>
              </a:rPr>
              <a:t>Meryl</a:t>
            </a:r>
            <a:r>
              <a:rPr b="0" lang="en-US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½Å¸íÁ¶"/>
                <a:ea typeface="신명조"/>
              </a:rPr>
              <a:t>J. Wall  &amp;  Florence L. Myers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권 도  하 역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한국언어치료학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절충주의적인 관점을 발전시킴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절충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여러 가지 자료에서 이끌어낸 요소들을 결합한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여러 가지 학설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방법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스타일 등에서 가장 좋다고 생각되는 것을 선택하는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절충의 필요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본질과 치료에 관하여 많은 진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 한가지의 만족스러운 방법 없음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영원히 불가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너무나 다양해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한가지 틀 속에 집어넣을 수가 없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사회적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리학적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언어학적 등의 측면에서 말더듬이들의 유사성에 따라 나눌 수는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절충적인 접근법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풍부한 이론적인 근거와 실험연구에서 유도해 낸 매우 잘 증명된 원리에 근거해야 한다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 원리에 근거를 두어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가 나타내는 특정한 증후를 검토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증후와 치료를 가장 적합하게 연결시키기 위하여 철저한 연구를 한 후에야 도달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이론없이 아무렇게나 여러 가지 치료기법들을 혼합한 것이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 장애라고 가장 많이 정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리듬장애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정상적인 흐름이 깨어져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시간 맞추기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timing)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리듬이 부적당한 패턴으로 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청각적 및 시각적 장애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향적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+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시각적인 실마리라는 견지에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자 및 청자의 반응이란 견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에 대한 기준은 객관적 및 주관적인 속성으로 이루어짐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따라서 병리적인 비유창성과 정상적인 비유창성을 구별하는 일은 어려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유 창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흐름이나 속도에 대한 일반적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전체적인 비율 형태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각 음과 음절의 지속 시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쉼의 지속시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강세대조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stress contrast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의 정도 등에 영향 받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용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본서에서는 중립적인 뜻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기타 저자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병리적인 비유창성의 반대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18" name="00418-1.mp3" descr=""/>
          <p:cNvPicPr/>
          <p:nvPr/>
        </p:nvPicPr>
        <p:blipFill>
          <a:blip r:embed="rId1"/>
          <a:stretch/>
        </p:blipFill>
        <p:spPr>
          <a:xfrm>
            <a:off x="864396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정상적인 비유창성</a:t>
            </a:r>
            <a:r>
              <a:rPr b="1" lang="en-US" sz="4400" spc="-1" strike="noStrike">
                <a:solidFill>
                  <a:srgbClr val="ffcc66"/>
                </a:solidFill>
                <a:latin typeface="HCI Hollyhock"/>
                <a:ea typeface="휴먼고딕"/>
              </a:rPr>
              <a:t>(nonfluency)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정도의 유창성 깨어짐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fluency disruption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상적인 구어 및 언어 발달 과정에 수반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정상적인 깨어짐의 일부분으로서 인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예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삽입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 반복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쉼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수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말더듬과 병리적인 비유창성</a:t>
            </a:r>
            <a:br>
              <a:rPr sz="4000"/>
            </a:br>
            <a:r>
              <a:rPr b="1" lang="en-US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(dysfluency or disfluency)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절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또는 단어가 운동적으로 깨어짐으로써 또는 화자가 거기에 반응함으로써 앞으로 흘러나오는 말의 흐름이 깨어질 때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속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강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억양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조음 외에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자의 안면 표정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자세 조정 등을 포함하는 어떤 비음성적 특징 등과 같은 변수들에 영향을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병리적인 비유창성의 결과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지연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방해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노력하는 것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불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협응 </a:t>
            </a: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등과 같은 특징이 나타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핵심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어보다 더 작은 발화 단위의 반복과 연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흐름이나 비율에서의 비정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평가 및 치료를 위한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HCI Poppy"/>
                <a:ea typeface="휴먼명조"/>
              </a:rPr>
              <a:t>3</a:t>
            </a: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요인 모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여러 가지 요인들 사이의 통합 혹은 협응의 결핍 결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폭넓고 절충적인 관점을 반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기 말더듬에 관한 정보를 조직하기 위한 모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Myers &amp; Well, 1982)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요인들과 아동기 말더듬의 임상적인 관리와 관련된 각 요인들간의 변인들을 나타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두 가지 요인들이 상호결합하면 한 요인이 다른 요인에 영향을 미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언어학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운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문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미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인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발화의 목적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용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사회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부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기타 의미있는 성인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담화의 사회적 하중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생리학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VOT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VI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두 및 후두부의 긴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자율신경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호흡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제</a:t>
            </a:r>
            <a:r>
              <a:rPr b="0" lang="en-US" sz="4400" spc="-1" strike="noStrike">
                <a:solidFill>
                  <a:srgbClr val="ffcc66"/>
                </a:solidFill>
                <a:latin typeface="HCI Poppy"/>
                <a:ea typeface="휴먼명조"/>
              </a:rPr>
              <a:t>1</a:t>
            </a: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장  서    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기 말더듬을 치료하는 임상가의 자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 치료의 어려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Wendell Johnson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글을 인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내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치료를 할 수록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치료에 관한 어떠한 치료적인 생각도 수용하게 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따라서 말더듬 치료 방법이 수없이 많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일시적 흥미 이상의 치료 성공을 거두는 방법들이 많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6" name="0043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용 글이 주는 교훈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Johnson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은 말더듬 분야의 대표적인 인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현상에 대단히 겸허하게 접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기간 치료 약속은 신중히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과 연구가 많이 발전되어 왔음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러나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와 임상실제에의 적용 사이에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 : 1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상관관계를 이루는 유일한 치료 프로그램은 없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 치료사의 자질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명조"/>
              </a:rPr>
              <a:t>말더듬에 관한 폭넓게 기초한 관점을 가질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예리한 관찰기술을 기를 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임상기법을 발전시키기 위하여 이론과 연구를 바르게 이해할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절충주의적인 관점을 발전시킬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01" name="00434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말더듬에 관한 폭넓은 기초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복잡하고 다차원적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과 구어산출 시스템 사이의 상호관계 이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산출 시스템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호흡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발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Van Riper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시간장애라고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핵심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절과 단어들의 운동형태가 일시적으로 깨어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두의 지나친 긴장과 구어산출의 기초 영역과의 장애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말더듬에 관한 폭넓은 기초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와 말더듬 사이의 상호관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발달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운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문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미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용론적 등의 발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산출 시스템이 발달하고 기간에 이루어짐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 등의 발달 사이의 상호작용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사회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리학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언어학적 등의 변인들을 고려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HCI Hollyhock"/>
                <a:ea typeface="휴먼명조"/>
              </a:rPr>
              <a:t>2. </a:t>
            </a: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예리한 관찰기술을 기를 것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대단히 복잡하고 다면적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multifaceted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에 영향을 미치는 요인에 관한 풍부한 지식을 가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행동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엄격하고 철저하게 관찰하고 서술하는 것이 중요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행동을 신뢰도와 타당도가 높게 관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관찰상의 개인내 차와 개인간 차가 허용오차 범위 내에 있도록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임상기법의 발전을 위한 이론과 연구를 바르게 이해할 것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생들의 특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인 것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&lt;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실제적인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문적 깊이 없는 실제는 위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인 통찰력과 연구발견점에 대한 지식에서 많은 것을 얻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훌륭한 연구는 풍부한 이론에서 나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러한 연구자료에 근거할 때 좋은 임상적인 방책들이 나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과 실제는 일방적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unidirectional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관계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6T00:06:49Z</dcterms:created>
  <dc:creator>황규탁</dc:creator>
  <dc:description/>
  <dc:language>en-US</dc:language>
  <cp:lastModifiedBy>user</cp:lastModifiedBy>
  <dcterms:modified xsi:type="dcterms:W3CDTF">2013-11-13T06:42:09Z</dcterms:modified>
  <cp:revision>34</cp:revision>
  <dc:subject/>
  <dc:title>말더듬 임상관리</dc:title>
</cp:coreProperties>
</file>