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29950-E8FC-46BD-A99E-CEF8BDFF8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5C369-9B33-415A-9C4C-CF9B3E7A7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67592-CF38-4BA6-B2CB-175C99B91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10BBD-F398-41DF-BA76-AE03510CF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A0338-0A3E-4F6A-9736-EBE9E71D9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42149-F089-458E-9E47-FF23E6E4B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A822F-8972-4AD2-ADEF-E549E23C5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1C69C-F690-481F-8544-FB8FFAEC0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1E14A-D44E-4137-A63E-C719B5C4C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C5348-5661-4C7E-BE6A-991F41042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134CE-0378-4255-B3BC-BC4F7AE63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9614B-71CA-4BD2-BDF0-2F834F14B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1E26D-B909-4645-B8DC-AC619D791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1BFAB-295F-40FF-93FE-A33F528D0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62E9B-DFC4-4EC3-86DD-1FCB8F068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45729-14D8-451D-B595-204DB1A0A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5BEA5-CD95-4C53-9ED9-3FE3BFBE7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47C60-EC8C-4BEE-85FA-A7A77002A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28282-673F-46A8-99B0-D45DD4CBF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F4A37-FF4A-430B-86B7-65A4EBEA7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B3BCA-6E12-42AA-B136-898A62853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F6EBD-668A-42C7-820E-5A2B34EB8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7AE4B-D3B2-42B2-967B-0324123D6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819D4-592B-4721-8715-14C39D10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A479E-CE05-4F6C-9BB1-B59944ECB03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ECE54-C063-4509-B00F-A2BC0D38489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dfdef6"/>
                </a:solidFill>
                <a:latin typeface="굴림"/>
              </a:rPr>
              <a:t>캐슈도료 </a:t>
            </a:r>
            <a:r>
              <a:rPr b="0" lang="ko-KR" sz="5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장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와 금속에 대한 부착력이 좋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차량이나 목공용 밑바탕 도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구의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밥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기 등의 코팅에 많이 쓰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 도막은 내용제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耐溶劑性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 커서 다른 많은 도료를 겹쳐서 사용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격이 싸고 사용법이 간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5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9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7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1844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의 특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0%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도료 유해물질이 포함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내후성에 약한 결점을 보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의 역겨운 냄새와 독성을 대부분 제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 시 기포가 잘 일어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9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3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7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1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다른 도료와의 차이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하며 탄력성이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 혹은 가열건조가 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7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1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5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성능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질기고 탄력성이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하고 방청성능도 뛰어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 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Baking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가 가능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7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1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5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9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3" dur="5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건조구조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 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공기 중에 산화중합하여 자연건조 혹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        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 건조한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구 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건조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촉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간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경화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5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20℃/3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160℃/2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 방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스프레이도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5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9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3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1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5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향 후 전 망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도료의 원조로써 최대기술보유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철재 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많은 산업에 응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대수요국가이기도 한 일본을 공략 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7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1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5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13600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성 식물인 옻나무과 캐슈의 과실 껍질에 함유되어 있는 액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Cashew Nut Shell Liquid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을 주원료로 한 유성도료를 말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천연산 옻과 비슷한 성질로 합성 칠도료라고도 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정의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" dur="5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20728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역사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39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일본의 캐슈회사에서 최초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차 세계 대전으로  중단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전후 본격적 도료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5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나무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쌍떡잎나무 무환자 나무목 옻나무과의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상록 소과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분류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옻나무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원산지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브라질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지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크기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높이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0~15m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 열대지방이 원산지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자바 말레이시아등 전세계 열대지방에서 재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136000" cy="40305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1258920" y="692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캐슈나무 열매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의 제조 방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원액 → 산성백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규조토로 정제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에서 포르말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페놀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석탄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등을 작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주성분인 카르단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카르돌과 중합되게 가공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데히드 → 점조성의 흑갈색 액체를 얻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5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5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첨가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의 성질 개선 위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→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키드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멜라민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요소수지등을 첨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상온건조 가능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베이킹도료로도 사용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단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역시 내후성에 약한 최대결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품위나 질감 역시 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옻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에 비하여 월등히 떨어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합된 포르말린과 페놀수지의 유해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시에 완전건조는 옻보다 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중합시 건조시간을 단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연장을 불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색상이 어두워 조색이 어려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시 기포 발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9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1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5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 캐슈도료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천연유성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캐슈넛트쉘액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Dammar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Sandalac,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송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동나무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탈수한파마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잇꽃기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옻을 고온에서 중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성도료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렌지 오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박하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발삼오일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5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9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7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1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5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10:03Z</dcterms:modified>
  <cp:revision>29</cp:revision>
  <dc:subject/>
  <dc:title>천연 캐슈 도료</dc:title>
</cp:coreProperties>
</file>